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BE92-73C6-47CC-A6EA-689EF8377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846C-713D-4BE1-A804-891F8A527E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2F1-8196-4BE1-A4EE-EC3C7A57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2B9D-99EE-449F-8178-3641405B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8A8-2AEE-4F54-BBAE-93472C6B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D74C-A163-44B4-97B6-0F8535D6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54FB-4378-478C-AE4F-79075FF0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ACBE-F7C0-4673-8F53-C557B04C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093E-1CA2-4911-AE58-72512E37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147D-D2A6-4714-AD8B-750F5BAB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52B8-0053-45B4-82A3-7CB52D7D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10C2-AFF5-4AA6-B3E2-59248FDB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8527-0E59-4C0A-8DAD-2240A99F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0E5-738D-4AE9-AA5F-48CA4985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1534-0875-441E-BE94-DB33ABE1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8B39-F6ED-4077-8068-3EDF1FF9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8B7F-4CE5-436C-8DD8-34E9968F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30FB-7807-4392-97B5-07D2FED4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91D2-6D03-4F7C-9E56-BFE63C86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C90-4AF9-4544-A07E-699F13DF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677D-A9ED-443A-95D7-F4B9F87E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8E7-EC03-4718-A8C9-BDBA2BEB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16A-CEC1-43F4-BA20-63963EEF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652-592C-4491-8669-A0A8FB65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12C-0759-48BA-BB4D-779BEE1A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6BB-AB6B-4193-A2CD-11FE29D4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BA7C-A55E-4A6F-9441-C888DBE58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6EC0-C4C2-441C-9358-B81673E938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merican Life in the 17</a:t>
            </a:r>
            <a:r>
              <a:rPr b="0" lang="en-US" sz="54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Centur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07-16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unishments for slav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isobeying one’s master slaves were whipped, hung, or skin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e families were often disbanded by s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e occurred often from white mas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Content Placeholder 4" descr="USASwhipping.jpg"/>
          <p:cNvPicPr/>
          <p:nvPr/>
        </p:nvPicPr>
        <p:blipFill>
          <a:blip r:embed="rId1"/>
          <a:stretch/>
        </p:blipFill>
        <p:spPr>
          <a:xfrm>
            <a:off x="4952880" y="1447920"/>
            <a:ext cx="35053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arly Abolitionis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621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litio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litionist literature included some former slave autobi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les Ball The Life of a Former Sl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Content Placeholder 4" descr="balltp.gif"/>
          <p:cNvPicPr/>
          <p:nvPr/>
        </p:nvPicPr>
        <p:blipFill>
          <a:blip r:embed="rId1"/>
          <a:stretch/>
        </p:blipFill>
        <p:spPr>
          <a:xfrm>
            <a:off x="5268960" y="1600200"/>
            <a:ext cx="2797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thern Socie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est class wa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ter cla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First Families of Virgini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wned 100 or more slaves &amp; dominated the House of Burge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Content Placeholder 4" descr="untitled.bmp"/>
          <p:cNvPicPr/>
          <p:nvPr/>
        </p:nvPicPr>
        <p:blipFill>
          <a:blip r:embed="rId1"/>
          <a:stretch/>
        </p:blipFill>
        <p:spPr>
          <a:xfrm>
            <a:off x="4648320" y="2352600"/>
            <a:ext cx="4038480" cy="30211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5029200" y="5943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lantation H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outhern societ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1" name="Content Placeholder 4" descr="Family%20of%205%20group%20portrait.jpg"/>
          <p:cNvPicPr/>
          <p:nvPr/>
        </p:nvPicPr>
        <p:blipFill>
          <a:blip r:embed="rId1"/>
          <a:stretch/>
        </p:blipFill>
        <p:spPr>
          <a:xfrm>
            <a:off x="3581280" y="272880"/>
            <a:ext cx="5099040" cy="58532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planter cla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farmers, merchants &amp; skilled artis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ntured serv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sl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ve Americ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The New England Family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Content Placeholder 12" descr="AmericanFamily.jpg"/>
          <p:cNvPicPr/>
          <p:nvPr/>
        </p:nvPicPr>
        <p:blipFill>
          <a:blip r:embed="rId1"/>
          <a:stretch/>
        </p:blipFill>
        <p:spPr>
          <a:xfrm>
            <a:off x="4406760" y="677880"/>
            <a:ext cx="3448080" cy="50436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England had strong family 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had many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infant mortality r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England husbands had much control over their wives and child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Life in the New England Tow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40280" cy="95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town consisted of a meetinghouse surrounded by houses, village green and cemete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Content Placeholder 9" descr="E_PoultneyGreen-wide.jpg"/>
          <p:cNvPicPr/>
          <p:nvPr/>
        </p:nvPicPr>
        <p:blipFill>
          <a:blip r:embed="rId1"/>
          <a:stretch/>
        </p:blipFill>
        <p:spPr>
          <a:xfrm>
            <a:off x="457200" y="2633760"/>
            <a:ext cx="4040280" cy="30337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4041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Towns of fifty families had a “Little Red Schoolhouse”. Towns with 100 families required a secondary schoo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Content Placeholder 10" descr="little_red_schoolhouse_zoom.jpg"/>
          <p:cNvPicPr/>
          <p:nvPr/>
        </p:nvPicPr>
        <p:blipFill>
          <a:blip r:embed="rId2"/>
          <a:stretch/>
        </p:blipFill>
        <p:spPr>
          <a:xfrm>
            <a:off x="5105520" y="2438280"/>
            <a:ext cx="3429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w England Tow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rly Colle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vard was established to train ministers in 163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am and Mary was established in 1693 in Virgi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wn, and later Pembroke for women, was established in Rhode Is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arvard’s oldest building is Massachusett’s Hal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Content Placeholder 6" descr="2498670-A_walk_through_Americas_most_prestigious_campus-Cambridge.jpg"/>
          <p:cNvPicPr/>
          <p:nvPr/>
        </p:nvPicPr>
        <p:blipFill>
          <a:blip r:embed="rId1"/>
          <a:stretch/>
        </p:blipFill>
        <p:spPr>
          <a:xfrm>
            <a:off x="4572000" y="2743200"/>
            <a:ext cx="3962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Half Way Covenant and “jeremiads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lf -Way Coven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213336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people could come to church even if they were not “visible saints”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al church memb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this approach “delude” relig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jeremia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800240" y="228600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achers scolded their congregations about their waning piety &amp; fai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have paved the way for Great Awakening ministers in colonial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Salem Witch Trial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1690s, group of Salem girls claimed to have been bewitched by older wo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sterical witch-hunt followed that led to the execution of 20 people and two dog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Similar events occurring in Europ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a year and a half the hysteria died d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Content Placeholder 9" descr="salem-witch-trial.jpg"/>
          <p:cNvPicPr/>
          <p:nvPr/>
        </p:nvPicPr>
        <p:blipFill>
          <a:blip r:embed="rId1"/>
          <a:stretch/>
        </p:blipFill>
        <p:spPr>
          <a:xfrm>
            <a:off x="2819520" y="4038480"/>
            <a:ext cx="3740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Early settlers’ Days and way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5" name="Content Placeholder 4" descr="american%20period%20traditional%20furniture.jpg"/>
          <p:cNvPicPr/>
          <p:nvPr/>
        </p:nvPicPr>
        <p:blipFill>
          <a:blip r:embed="rId1"/>
          <a:stretch/>
        </p:blipFill>
        <p:spPr>
          <a:xfrm>
            <a:off x="3575160" y="762120"/>
            <a:ext cx="5111640" cy="36576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n up to sun down work. Unless an event was “worth a candle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 lot of extravagant liv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shing, whaling, ship building, furniture maker were the big industr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5"/>
          <p:cNvSpPr/>
          <p:nvPr/>
        </p:nvSpPr>
        <p:spPr>
          <a:xfrm>
            <a:off x="4038480" y="4876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ddard Townshed family furniture of New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96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13 Colon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Engl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t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t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onom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ld Mines of New Engla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Content Placeholder 7" descr="cod_fish1.jpg"/>
          <p:cNvPicPr/>
          <p:nvPr/>
        </p:nvPicPr>
        <p:blipFill>
          <a:blip r:embed="rId1"/>
          <a:stretch/>
        </p:blipFill>
        <p:spPr>
          <a:xfrm>
            <a:off x="754200" y="2286000"/>
            <a:ext cx="3444840" cy="3352680"/>
          </a:xfrm>
          <a:prstGeom prst="rect">
            <a:avLst/>
          </a:prstGeom>
          <a:ln w="0">
            <a:noFill/>
          </a:ln>
        </p:spPr>
      </p:pic>
      <p:pic>
        <p:nvPicPr>
          <p:cNvPr id="290" name="Content Placeholder 8" descr="whaling1.jpg"/>
          <p:cNvPicPr/>
          <p:nvPr/>
        </p:nvPicPr>
        <p:blipFill>
          <a:blip r:embed="rId2"/>
          <a:stretch/>
        </p:blipFill>
        <p:spPr>
          <a:xfrm>
            <a:off x="4648320" y="2666880"/>
            <a:ext cx="4038480" cy="3252960"/>
          </a:xfrm>
          <a:prstGeom prst="rect">
            <a:avLst/>
          </a:prstGeom>
          <a:ln w="0">
            <a:noFill/>
          </a:ln>
        </p:spPr>
      </p:pic>
      <p:sp>
        <p:nvSpPr>
          <p:cNvPr id="291" name="TextBox 9"/>
          <p:cNvSpPr/>
          <p:nvPr/>
        </p:nvSpPr>
        <p:spPr>
          <a:xfrm>
            <a:off x="762120" y="13716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od fis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10"/>
          <p:cNvSpPr/>
          <p:nvPr/>
        </p:nvSpPr>
        <p:spPr>
          <a:xfrm>
            <a:off x="4724280" y="1295280"/>
            <a:ext cx="357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New Bedford wha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healthy Chesapeake Are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sh Wilderness Life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 expectancy for many was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sapeake area had a 6-1 ration of males to fem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children born out of wed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ginia most populated colo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Content Placeholder 6" descr="Elisha_Woodbury_b1762.jpg"/>
          <p:cNvPicPr/>
          <p:nvPr/>
        </p:nvPicPr>
        <p:blipFill>
          <a:blip r:embed="rId1"/>
          <a:stretch/>
        </p:blipFill>
        <p:spPr>
          <a:xfrm>
            <a:off x="5029200" y="1447920"/>
            <a:ext cx="3238560" cy="36576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7"/>
          <p:cNvSpPr/>
          <p:nvPr/>
        </p:nvSpPr>
        <p:spPr>
          <a:xfrm>
            <a:off x="4724280" y="52578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lisha Woodbury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ave…typhoid fever victim in 17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Tobacco Econom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 tobacco cultiv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ivated by indentured serv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d transatlantic passage &amp; freedom du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Content Placeholder 7" descr="slavery2indenturecontract.jpg"/>
          <p:cNvPicPr/>
          <p:nvPr/>
        </p:nvPicPr>
        <p:blipFill>
          <a:blip r:embed="rId1"/>
          <a:stretch/>
        </p:blipFill>
        <p:spPr>
          <a:xfrm>
            <a:off x="4724280" y="1295280"/>
            <a:ext cx="3810240" cy="3429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8"/>
          <p:cNvSpPr/>
          <p:nvPr/>
        </p:nvSpPr>
        <p:spPr>
          <a:xfrm>
            <a:off x="4038480" y="5029200"/>
            <a:ext cx="464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dentured servant con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The Head right System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Content Placeholder 7" descr="hc07.gif"/>
          <p:cNvPicPr/>
          <p:nvPr/>
        </p:nvPicPr>
        <p:blipFill>
          <a:blip r:embed="rId1"/>
          <a:stretch/>
        </p:blipFill>
        <p:spPr>
          <a:xfrm>
            <a:off x="4495680" y="762120"/>
            <a:ext cx="2583000" cy="25146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 acres of land to whoever paid for indentured servant pa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large plant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available land for poor colonial immigr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10" descr="1910WilliamBurrelLawless.jpg"/>
          <p:cNvPicPr/>
          <p:nvPr/>
        </p:nvPicPr>
        <p:blipFill>
          <a:blip r:embed="rId2"/>
          <a:stretch/>
        </p:blipFill>
        <p:spPr>
          <a:xfrm>
            <a:off x="3429000" y="4572000"/>
            <a:ext cx="4495680" cy="17524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1"/>
          <p:cNvSpPr/>
          <p:nvPr/>
        </p:nvSpPr>
        <p:spPr>
          <a:xfrm>
            <a:off x="4343400" y="3505320"/>
            <a:ext cx="273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ad right historical mar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rec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acon’s Rebellion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verished freemen frustrated w/ broken hopes of acquiring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nted friendly policy towards n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ginians (free men, indentured servants) rose &amp; attacked nati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rched Jamest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11" descr="colonial_exp.jpg"/>
          <p:cNvPicPr/>
          <p:nvPr/>
        </p:nvPicPr>
        <p:blipFill>
          <a:blip r:embed="rId1"/>
          <a:stretch/>
        </p:blipFill>
        <p:spPr>
          <a:xfrm>
            <a:off x="2666880" y="4495680"/>
            <a:ext cx="39816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lonial Slave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lf a million slaves brought to Americ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 Million to the “New World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slaves from West Af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1750 African Slaves are very populous in the Southern colon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Content Placeholder 4" descr="menu1.jpg"/>
          <p:cNvPicPr/>
          <p:nvPr/>
        </p:nvPicPr>
        <p:blipFill>
          <a:blip r:embed="rId1"/>
          <a:stretch/>
        </p:blipFill>
        <p:spPr>
          <a:xfrm>
            <a:off x="5410080" y="1447920"/>
            <a:ext cx="2286000" cy="1195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E027.jpg"/>
          <p:cNvPicPr/>
          <p:nvPr/>
        </p:nvPicPr>
        <p:blipFill>
          <a:blip r:embed="rId2"/>
          <a:stretch/>
        </p:blipFill>
        <p:spPr>
          <a:xfrm>
            <a:off x="4343400" y="2971800"/>
            <a:ext cx="4541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Triangular Tra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w England with rum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ld Coast of Africa, trade it for African Slaves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st Indies, where slaves were exchanged for molasses, which in turn would be traded in New England  to make ru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Content Placeholder 4" descr="Triangular_trade_wordless.jpg"/>
          <p:cNvPicPr/>
          <p:nvPr/>
        </p:nvPicPr>
        <p:blipFill>
          <a:blip r:embed="rId1"/>
          <a:stretch/>
        </p:blipFill>
        <p:spPr>
          <a:xfrm>
            <a:off x="4648320" y="1371600"/>
            <a:ext cx="4038480" cy="4243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rod_brown_middle_passage_art.jpg"/>
          <p:cNvPicPr/>
          <p:nvPr/>
        </p:nvPicPr>
        <p:blipFill>
          <a:blip r:embed="rId2"/>
          <a:stretch/>
        </p:blipFill>
        <p:spPr>
          <a:xfrm>
            <a:off x="762120" y="5410080"/>
            <a:ext cx="35812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arly slave revol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e protests took many 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ight rebell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ing sl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ting s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botaging f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right revolts occur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no River rebellion in 1739 in South Carol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Content Placeholder 4" descr="stono_rebellion.jpg"/>
          <p:cNvPicPr/>
          <p:nvPr/>
        </p:nvPicPr>
        <p:blipFill>
          <a:blip r:embed="rId1"/>
          <a:stretch/>
        </p:blipFill>
        <p:spPr>
          <a:xfrm>
            <a:off x="4495680" y="1447920"/>
            <a:ext cx="4038840" cy="208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cf285ca7-4d8d-4051-a724-5fa06abf9307.jpg"/>
          <p:cNvPicPr/>
          <p:nvPr/>
        </p:nvPicPr>
        <p:blipFill>
          <a:blip r:embed="rId2"/>
          <a:stretch/>
        </p:blipFill>
        <p:spPr>
          <a:xfrm>
            <a:off x="4419720" y="3733920"/>
            <a:ext cx="42670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4:59:15Z</dcterms:created>
  <dc:creator>brissettematthew</dc:creator>
  <dc:description/>
  <dc:language>en-US</dc:language>
  <cp:lastModifiedBy>emily.johnson</cp:lastModifiedBy>
  <dcterms:modified xsi:type="dcterms:W3CDTF">2012-09-12T19:18:09Z</dcterms:modified>
  <cp:revision>56</cp:revision>
  <dc:subject/>
  <dc:title>Chapter 4 American Life in the Seventeenth Century</dc:title>
</cp:coreProperties>
</file>